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78F4-9A2B-4955-BD6D-E41257CE8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BB0C-30DE-4A13-83ED-A9AD3F3FA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3E2B-A357-456F-9C1F-FA328E68D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48E8-F219-4977-814C-5329721F0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DD53-8D23-49F1-9928-CEF9185D4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38F7-AB49-414F-9DF6-21609C79B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FC24-D3F9-477F-B58E-32911C9F1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1E0A-3DC4-4EA1-B152-A5E1BD4A8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5057-BC0A-476D-8406-1D603A2FE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16E9-A362-413E-993B-1F758A5D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290A-49AF-4045-99C9-096CA1D3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BBD6-DA59-42F0-9C35-82F68F64F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B3165-5289-4F01-A397-59A51EF985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trans-siberia-tour-three-cities"/>
          <p:cNvPicPr/>
          <p:nvPr/>
        </p:nvPicPr>
        <p:blipFill>
          <a:blip r:embed="rId1"/>
          <a:stretch/>
        </p:blipFill>
        <p:spPr>
          <a:xfrm>
            <a:off x="0" y="-17640"/>
            <a:ext cx="10439280" cy="6875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99"/>
                </a:solidFill>
                <a:latin typeface="Berlin Sans FB Demi"/>
              </a:rPr>
              <a:t>Movemen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666520" y="4343400"/>
            <a:ext cx="533412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99"/>
                </a:solidFill>
                <a:latin typeface="Burst My Bubble"/>
              </a:rPr>
              <a:t>By:</a:t>
            </a:r>
            <a:r>
              <a:rPr b="0" lang="en-US" sz="4800" spc="-1" strike="noStrike">
                <a:solidFill>
                  <a:srgbClr val="cc66ff"/>
                </a:solidFill>
                <a:latin typeface="Burst My Bubble"/>
              </a:rPr>
              <a:t> </a:t>
            </a:r>
            <a:r>
              <a:rPr b="0" lang="en-US" sz="4800" spc="-1" strike="noStrike">
                <a:solidFill>
                  <a:srgbClr val="cc00ff"/>
                </a:solidFill>
                <a:latin typeface="Burst My Bubble"/>
              </a:rPr>
              <a:t>Alissa Tam</a:t>
            </a:r>
            <a:r>
              <a:rPr b="0" lang="en-US" sz="4800" spc="-1" strike="noStrike">
                <a:solidFill>
                  <a:srgbClr val="cc66ff"/>
                </a:solidFill>
                <a:latin typeface="Burst My Bubble"/>
              </a:rPr>
              <a:t> </a:t>
            </a:r>
            <a:r>
              <a:rPr b="0" lang="en-US" sz="4800" spc="-1" strike="noStrike">
                <a:solidFill>
                  <a:srgbClr val="ff3399"/>
                </a:solidFill>
                <a:latin typeface="Burst My Bubble"/>
              </a:rPr>
              <a:t>and</a:t>
            </a:r>
            <a:r>
              <a:rPr b="0" lang="en-US" sz="4800" spc="-1" strike="noStrike">
                <a:solidFill>
                  <a:srgbClr val="cc66ff"/>
                </a:solidFill>
                <a:latin typeface="Burst My Bubble"/>
              </a:rPr>
              <a:t> </a:t>
            </a:r>
            <a:r>
              <a:rPr b="0" lang="en-US" sz="4800" spc="-1" strike="noStrike">
                <a:solidFill>
                  <a:srgbClr val="66ff33"/>
                </a:solidFill>
                <a:latin typeface="Burst My Bubble"/>
              </a:rPr>
              <a:t>Bridget Durgin</a:t>
            </a:r>
            <a:r>
              <a:rPr b="0" lang="en-US" sz="4000" spc="-1" strike="noStrike">
                <a:solidFill>
                  <a:srgbClr val="66ff33"/>
                </a:solidFill>
                <a:latin typeface="Burst My Bubble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77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77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" dur="77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" dur="77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Bauhaus 93"/>
              </a:rPr>
              <a:t>Water Transpor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ecff"/>
              </a:buClr>
              <a:buFont typeface="Goudy Stou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ecff"/>
                </a:solidFill>
                <a:latin typeface="Goudy Stout"/>
              </a:rPr>
              <a:t>Many Russian rivers run from south to north making their use difficult during the wint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ecff"/>
              </a:buClr>
              <a:buFont typeface="Goudy Stou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ecff"/>
                </a:solidFill>
                <a:latin typeface="Goudy Stout"/>
              </a:rPr>
              <a:t>Most ports are covered in snow and i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ecff"/>
              </a:buClr>
              <a:buFont typeface="Goudy Stou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ecff"/>
                </a:solidFill>
                <a:latin typeface="Goudy Stout"/>
              </a:rPr>
              <a:t>The traders must transport their goods another 200 miles to reach the nearest part of inland Russ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0287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Matura MT Script Capitals"/>
              </a:rPr>
              <a:t>Port Citie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uice ITC"/>
              </a:rPr>
              <a:t>Russia has two important ports called Kaliningrad and St. Petersbur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uice ITC"/>
              </a:rPr>
              <a:t>Kaliningrad is located on a small island in the Baltic Se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uice ITC"/>
              </a:rPr>
              <a:t>It’s the only port that stays ice-free the whole ye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uice ITC"/>
              </a:rPr>
              <a:t>In the summer they have the choice of keeping their goods on the ships to travel 500 miles to St. Petersbur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vie"/>
              </a:rPr>
              <a:t>Railro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Ravi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avie"/>
              </a:rPr>
              <a:t>Railroad travel is the main transportation of Russ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Ravi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avie"/>
              </a:rPr>
              <a:t>In 1995 Russia had 154,000km of railroads but 26% of them were electrifi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Ravi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avie"/>
              </a:rPr>
              <a:t>Railroad traffic dropped since the beginning of the Russian economic reform, making the economy b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99"/>
                </a:solidFill>
                <a:latin typeface="Kristen ITC"/>
              </a:rPr>
              <a:t>Air Transpor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99"/>
              </a:buClr>
              <a:buFont typeface="Joker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Jokerman"/>
              </a:rPr>
              <a:t>The donation of air service of total travel has dropped to 12.5% by 199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99"/>
              </a:buClr>
              <a:buFont typeface="Joker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Jokerman"/>
              </a:rPr>
              <a:t>The number of passengers flying was less then half the 1990 to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99"/>
              </a:buClr>
              <a:buFont typeface="Joker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Jokerman"/>
              </a:rPr>
              <a:t>They pay part of air fares and long distance flights between cities accounted for much of the air activity in the early 1990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7" descr="image1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ublic Transpor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viet citizens rely on public transpor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six Russian cities have underground transportation, Moscow, St. Petersburg, Yekaterinburg, Nizhniy, Novgorod, Novosibirsk, and Sama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lot of vehicles require expensive repair and moder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5:10:15Z</dcterms:created>
  <dc:creator>Student</dc:creator>
  <dc:description/>
  <dc:language>en-US</dc:language>
  <cp:lastModifiedBy>Alissa Tam</cp:lastModifiedBy>
  <dcterms:modified xsi:type="dcterms:W3CDTF">2010-12-20T22:23:53Z</dcterms:modified>
  <cp:revision>6</cp:revision>
  <dc:subject/>
  <dc:title>Movement</dc:title>
</cp:coreProperties>
</file>